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185-2B2A-409A-9DE5-7FA0F0F0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C4D2-8745-4CCD-BE91-003637FD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485-4240-4101-B56B-058B2579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1BE7-FBB6-4D38-89F1-7719EEFC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3B76-6860-406C-871D-2EB30B9A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7FF1-EC19-4E30-BB88-3CE664CB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A336-CA99-4A7F-9AA7-4F2FB348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5E22-838D-4AFF-82BC-46768157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62E9-E0D6-4410-B1C8-C0E424A6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DBBE-4CDB-4BFE-8DF4-511B4DCE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B670-995B-45D7-9FE0-8CA8A2DB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4F3-B050-4B45-840A-7BF14733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29AE-EF8D-4037-A5AD-72D38825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3BCA-6FFA-435A-A411-78205E5D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372D-43F9-4583-9B24-FE316D90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8B24-1037-48C2-A0B1-42620787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0965-DAD0-4BD4-852D-892A360A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0A833-927A-483C-AA75-7C51C033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5C1AB-5FFD-4B2A-9A8A-99805CB5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AC669-A970-41F2-852A-5D9C1AA0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A55EA-1DD0-4C6E-9D41-10BE4DB6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08D17-5854-466E-868C-11A39C21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176-44C9-4362-B82E-8423ACB5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912EB-69D8-4A2B-AA87-01D4B4BE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60D20-4C11-4905-85AF-4E2B4D3B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C6C9C-16CF-4372-8B1D-A14F8D37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C1289-641E-4A50-9A33-C244CE7D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F607C-2A4D-40B1-BBD6-B3E59228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D60BA-7C47-4ACC-A9B5-30175A6E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51E3B-C8D6-43CB-B426-C886BD28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B79A9-9E58-41C2-83EF-F2F70FD4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76020-979A-45E1-930C-7BBE2B28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C3753-C061-4D70-B6D9-2AC2DBED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8C69-B2DE-4BF9-88AF-28A4C02A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22FB9-B602-441A-B1AC-021BE837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4EE07-80E5-441A-A9EB-6F130666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7E99D-A776-4DA9-A214-EEC8DDCA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20E27-4182-4ED4-93FB-01B425F1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05105-6F58-4015-BC32-9DB2AA02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0C75A-90A9-4EE8-8046-F07E1B8D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7B25D-D242-4720-B2CA-D76F4033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DA2C5-18CB-4D63-B387-57D0E14E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1CD9B-E65B-4D21-99A8-FAE6149F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23ED9-851F-4DB1-AA02-3E7D7227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B7F-B5C2-464F-B104-99A140F6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482F9-6973-4F99-85FC-B1520270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3AF51-374A-4B2B-BFB1-57A675CF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B9350-1981-4AD5-BDD6-104894DA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3FA6C-3CE3-413E-8CBC-E825D19A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34A64-5BE8-4CB6-AA80-735B5114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342D4-089F-4B06-A9E2-5C37C90A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6FC99-8ABE-46C9-AACE-2712E26D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D0777-4C4D-4AAE-A0D9-D2D19000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33086-B6AD-4B04-A4DB-192E192D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5594D-BB8A-4E5A-A6D1-B2EB57D5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D1A8-A6B6-4BC6-B505-41454239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9ECF9-E1FE-4344-8779-3E5F2568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542-5C47-4E00-AD63-E6BC9A97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ECB-2A55-4B2B-86BB-A0B3778D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275-FAF8-4110-983B-071BDE30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CB72-D2E1-4455-AA86-70DCADC2959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3984-22FB-4A5F-AE8B-A3805FD68EB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5A4C-A167-4717-99AA-587130BAD88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8284-B9E5-4D0C-A3D5-B132DA9D7A73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3155-E928-442D-8E7C-A8947991764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Выполнила: студентка 143 группы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Мингалева Ален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1752120" y="5562720"/>
            <a:ext cx="4876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Есть ли ветер в голове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4" descr="G:\ветер\47002210_D092D095D0A2D095D0A0.jpg"/>
          <p:cNvPicPr/>
          <p:nvPr/>
        </p:nvPicPr>
        <p:blipFill>
          <a:blip r:embed="rId2"/>
          <a:stretch/>
        </p:blipFill>
        <p:spPr>
          <a:xfrm>
            <a:off x="1600200" y="15238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312408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жно ли догнать ветер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3962520" y="1523880"/>
            <a:ext cx="3352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ществует ли ветер на других планетах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J:\ветер\c90606c3cb8ec554e37105085910fd59_big.jpg"/>
          <p:cNvPicPr/>
          <p:nvPr/>
        </p:nvPicPr>
        <p:blipFill>
          <a:blip r:embed="rId2"/>
          <a:stretch/>
        </p:blipFill>
        <p:spPr>
          <a:xfrm>
            <a:off x="4114800" y="28954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3"/>
          <a:stretch/>
        </p:blipFill>
        <p:spPr>
          <a:xfrm>
            <a:off x="914400" y="2514600"/>
            <a:ext cx="2438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такое ветер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ие виды ветров существует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образуется ветер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измерить ветер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ля чего нужно знать параметры ветра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используется ветер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ие бедствия сопровождает ветер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рмирование навыков работы на компьютере и в интернет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рмирование самостоятельной познавательной деятельности, критического мышления, навыков работы в команд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обретение навыков самостоятельной работы с большими объемами информации, умений увидеть проблему и наметить пути ее решени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ндивидуа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рупп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INA</cp:lastModifiedBy>
  <dcterms:modified xsi:type="dcterms:W3CDTF">2010-06-01T19:44:0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